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BD49-CEDA-4D0C-897E-31C1134F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D853-9134-4234-8C30-5011062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6CCC-18E4-48C4-985E-11240E3C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AF70-E828-4BEE-B424-2ED5907C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A6B7-4D43-4F3E-B24F-8DBAD223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581E-A33D-465E-A7DB-340C6AC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3BF7-E184-4873-81FC-733982BF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A2EE-D0DF-4C30-9F47-C34A534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356E-EC72-41F1-81CB-0CD7FE99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F011-A07D-4760-A617-B00C915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773-70D9-4FB5-9C22-C78BD67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4C27-CE8A-4429-8BB6-4002267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C339-6E95-4A74-8D0D-25BFF1F36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525-AA66-4268-BF15-9B7526D5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(COP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anuary 2014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/29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oting items from COPS this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 Leadershi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r - Michelle Trenary, Tenaska Power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ce Chair – John Schatz, TXU Energ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NPRR661, Discontinue Posting Profile Data Evaluation Report, PWG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WG recommends that ERCOT retain the information currently contained in the Profile Data Evaluation Report and make available to Market Participants via an ad hoc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UNICATIONS AND SETTLEMENTS WORKING GROUP (CSWG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NPRR580, Establishment of a Rolling CRR Balancing Account F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January 2015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a monthly basis, after refunds for CRR shortfalls, deposit any excess into a capped “Rolling Balancing Account Fund” to be used to cover shortfalls in future months.  Distribute to load when the funds exceeds the $10 million ca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Corrections 10/6/2014 through 10/17/20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by the Board 12/9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with implementation of NPRR485, Clarification for Fuel Adder Pro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with Verifiable Costs had Fuel Adder (used in mitigated offer cap) incorrectly set to zero due to a system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aused “over-mitigation” and affected some RTLMPs and RTS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tlement for 10/6/2014 posted 1/20/2015 and other ODs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UNICATIONS AND SETTLEMENTS WORKING GROUP (CSWG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8377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Minute Data Extracts Available 2/12/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772, New Extract for Five Minute Interval Settlem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data to shadow NPRR377, Alternate Inputs to Base Point Deviation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 Rule Resettlement Notifications will now include the Market-wide settlement charges total for the Operating Day; Providing transparency for the 2% Threshold am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WG will be working to update the Nodal Settlement Operating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ILING WORKING GROUP (PWG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9903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 Annual Validation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able" descr=""/>
          <p:cNvPicPr/>
          <p:nvPr/>
        </p:nvPicPr>
        <p:blipFill>
          <a:blip r:embed="rId1"/>
          <a:stretch/>
        </p:blipFill>
        <p:spPr>
          <a:xfrm>
            <a:off x="1308240" y="1600200"/>
            <a:ext cx="6078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INFORMATION SYSTEM USER GROUP (MISUG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G is working with OWG to create a new NOGRR to update gray-boxed language for NOGRR084, Daily Grid Operations Summary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3376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WG declined to sponsor the new NOGRR; MISUG will work with ERCOT Operations to move the new NOGRR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ual Efforts &amp; Market Report True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3376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ed the 15 reports that have been recommended for discontinuation/decommissioning and submitted Revision Requ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3376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WG reviewing LPRR and NPRR related to a Load Profiling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3376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OS and WMS tabled additional discussion on NPRRs to allow the Subcommittees time to review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3376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WG plan to endorse comments next month for aligning NOGRR138 and NPRR6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0040" indent="-3376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INFORMATION SYSTEM USER GROUP (MISUG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published Market Reports for accuracy, completeness, and usefulness contin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11/14/2014 Workshop to evaluate the technical feasibility of changing the MIS from a “Pull-type” service to a “Push-type”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shop was well att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: Easy use of Web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Next step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will evaluate suggestions provided and a follow-up meeting will be schedu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 February 11, 201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dcterms:modified xsi:type="dcterms:W3CDTF">2015-01-27T18:32:47Z</dcterms:modified>
  <cp:revision>1048</cp:revision>
  <dc:subject/>
  <dc:title>Instructions</dc:title>
</cp:coreProperties>
</file>